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833-F179-4BB5-B168-078F68CA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7A87-0157-49C0-9865-9B6EDD69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3D11-BA91-45D8-9251-E4BA1BF1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4B5-C12C-48E2-98F0-BD751C75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65BC-B8A1-481E-BA14-38CE997E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F611-E18F-45B8-9E73-7110AC4C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2877-69E6-4152-BEFD-FFA8535F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44E1-D791-4B64-9956-7B0ACF84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CF2D-D6FB-4C63-95B6-FEA8BDE0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4CDF-BD22-4EE8-A026-6F482876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5B91-C9CC-43CE-8DFD-80F4AF16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2A4-B493-4FFB-B80E-5C5000FC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44BD-9F07-4DED-9EAD-177D9111B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2016000"/>
            <a:ext cx="8547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000066"/>
                </a:solidFill>
                <a:latin typeface="Arial"/>
              </a:rPr>
              <a:t>Present Day Russia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Arial"/>
              </a:rPr>
              <a:t>By: Magdalena, Jennifer, and Ja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9440" y="304560"/>
            <a:ext cx="9401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Arial"/>
              </a:rPr>
              <a:t>Environmental Issu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79440" y="1828800"/>
            <a:ext cx="9401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00"/>
                </a:solidFill>
                <a:latin typeface="Arial"/>
              </a:rPr>
              <a:t>Russia’s old communist government didn’t do much for the government. They gave out lots of dirty smoke and dumped poisons into rivers and lak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They also polluted the air, water, and land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ff"/>
                </a:solidFill>
                <a:latin typeface="Arial"/>
              </a:rPr>
              <a:t>Now Russia is using nuclear energy plants. Even though they don’t pollute the air, they leave dangerous by-product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9440" y="304560"/>
            <a:ext cx="9401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66ff"/>
                </a:solidFill>
                <a:latin typeface="Arial"/>
              </a:rPr>
              <a:t>Environmental Issu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79440" y="1828800"/>
            <a:ext cx="9401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938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383b3"/>
                </a:solidFill>
                <a:latin typeface="Arial"/>
              </a:rPr>
              <a:t>Here are some pictures showing these environmental problems in Russia: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Arial"/>
              </a:rPr>
              <a:t>These are factories giving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Arial"/>
              </a:rPr>
              <a:t>out gas (left). And to th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Arial"/>
              </a:rPr>
              <a:t>(right) are nuclear power plant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2624040"/>
            <a:ext cx="5292720" cy="3525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418000" y="3556080"/>
            <a:ext cx="474192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9440" y="304560"/>
            <a:ext cx="9401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6699"/>
                </a:solidFill>
                <a:latin typeface="Arial"/>
              </a:rPr>
              <a:t>Life Expectanc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9440" y="1828800"/>
            <a:ext cx="9401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Arial"/>
              </a:rPr>
              <a:t>Russia' old economy polluted the air making it less healthy. Russia’s air pollution also has caused rising cancer and falling life expectancy in the country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9933"/>
                </a:solidFill>
                <a:latin typeface="Arial"/>
              </a:rPr>
              <a:t>Now most people are suffering from lung diseases. This shows that Russia’s population is becoming less healthy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total population: 66.39 years </a:t>
            </a:r>
            <a:br>
              <a:rPr sz="3100"/>
            </a:b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male: 59.91 years </a:t>
            </a:r>
            <a:br>
              <a:rPr sz="3100"/>
            </a:b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female: 73.27 years (2004 est.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9440" y="304560"/>
            <a:ext cx="9401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993366"/>
                </a:solidFill>
                <a:latin typeface="Arial"/>
              </a:rPr>
              <a:t>Life Expectanc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79440" y="1828800"/>
            <a:ext cx="9401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ff33"/>
                </a:solidFill>
                <a:latin typeface="Arial"/>
              </a:rPr>
              <a:t>Here is a chart showing lowering rates of life expectancy in Russia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30240" y="2624040"/>
            <a:ext cx="788688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5880" y="303120"/>
            <a:ext cx="9667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5818e"/>
                </a:solidFill>
                <a:latin typeface="Arial"/>
              </a:rPr>
              <a:t>          </a:t>
            </a:r>
            <a:r>
              <a:rPr b="0" lang="en-US" sz="4300" spc="-1" strike="noStrike">
                <a:solidFill>
                  <a:srgbClr val="45818e"/>
                </a:solidFill>
                <a:latin typeface="Arial"/>
              </a:rPr>
              <a:t>Russia's New Gover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d966"/>
                </a:solidFill>
                <a:latin typeface="Arial"/>
              </a:rPr>
              <a:t>Russia is still learning on how to act in their new goverm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Before, the Russian leaders could do whatever they wan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They also got to punish any people who would criticize their descio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06666"/>
                </a:solidFill>
                <a:latin typeface="Arial"/>
              </a:rPr>
              <a:t>Now the leaders must learn to follow the new law and the Russian goverment officials have to adjust to accepting disagreements over the goverment policies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                  </a:t>
            </a:r>
            <a:r>
              <a:rPr b="1" lang="en-US" sz="4300" spc="-1" strike="noStrike">
                <a:solidFill>
                  <a:srgbClr val="6fa8dc"/>
                </a:solidFill>
                <a:latin typeface="Arial"/>
              </a:rPr>
              <a:t>Ethnic Group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34f5c"/>
                </a:solidFill>
                <a:latin typeface="Arial"/>
              </a:rPr>
              <a:t>Russia has many different ethnic groups.Some groups want to form their own countries seperate from Russi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45f06"/>
                </a:solidFill>
                <a:latin typeface="Arial"/>
              </a:rPr>
              <a:t>One of these groups are the Chechens. They live in Chechnya close to the Caspian Sea in the southern part of Russi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Arial"/>
              </a:rPr>
              <a:t>The Russian troops have fought the Chechen forces to still keep Chechnya a part of southern Russi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fc5e8"/>
                </a:solidFill>
                <a:latin typeface="Arial"/>
              </a:rPr>
              <a:t>                  </a:t>
            </a:r>
            <a:r>
              <a:rPr b="1" lang="en-US" sz="4300" spc="-1" strike="noStrike">
                <a:solidFill>
                  <a:srgbClr val="6fa8dc"/>
                </a:solidFill>
                <a:latin typeface="Arial"/>
              </a:rPr>
              <a:t>Ethnic Group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5800" y="1422000"/>
            <a:ext cx="9667800" cy="54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700" spc="-1" strike="noStrike">
                <a:solidFill>
                  <a:srgbClr val="b6d7a8"/>
                </a:solidFill>
                <a:latin typeface="Arial"/>
              </a:rPr>
              <a:t>Here is a map showing some different ethnic groups in Russia including Chechnya(Chechens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6d7a8"/>
                </a:solidFill>
                <a:latin typeface="Arial"/>
              </a:rPr>
              <a:t>                   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6d7a8"/>
                </a:solidFill>
                <a:latin typeface="Arial"/>
              </a:rPr>
              <a:t>  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            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9440" y="304560"/>
            <a:ext cx="9401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Good Things About Present Russ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79440" y="1828800"/>
            <a:ext cx="9401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66ff"/>
                </a:solidFill>
                <a:latin typeface="Arial"/>
              </a:rPr>
              <a:t>Russia has followed the United States in their government and economy style. Now they have adopted a free market economy and a democracy. People now in Russia can vote for their leader and put prices on products freely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66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ffcc"/>
                </a:solidFill>
                <a:latin typeface="Arial"/>
              </a:rPr>
              <a:t>Russia is starting their first suburbs around cities. This idea may give people more space, but still be close to citi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